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8.jpeg" ContentType="image/jpeg"/>
  <Override PartName="/ppt/media/image5.wmf" ContentType="image/x-wmf"/>
  <Override PartName="/ppt/media/image7.jpeg" ContentType="image/jpeg"/>
  <Override PartName="/ppt/media/image12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10.jpeg" ContentType="image/jpeg"/>
  <Override PartName="/ppt/media/image1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9deea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e9de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3C122-7CE7-4B58-B7DA-69A1C05CDCD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81ACE-2E1D-46B4-8144-7931ED64001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1E97A-155C-4665-82FA-63D44BF05D4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895C-7535-44C2-865A-5F93395A3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9deea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162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c4da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3964320"/>
            <a:ext cx="7162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c4d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89F4-FCAC-40A4-9388-CBF9D73B6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9deea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495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c4da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94080" y="1600200"/>
            <a:ext cx="3495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c4da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3964320"/>
            <a:ext cx="3495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c4da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94080" y="3964320"/>
            <a:ext cx="3495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c4d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D468-8280-4495-B427-486E96698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9deea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230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c4da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45240" y="1600200"/>
            <a:ext cx="230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c4da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67320" y="1600200"/>
            <a:ext cx="230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c4da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3964320"/>
            <a:ext cx="230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c4da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45240" y="3964320"/>
            <a:ext cx="230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c4da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67320" y="3964320"/>
            <a:ext cx="230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c4d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E496-B27A-4161-919C-9456377A6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A009C-00C3-4345-8972-147F66EBA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9deea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523520" y="1600200"/>
            <a:ext cx="7162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c4d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32DB6-645B-479F-8173-707A913AF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9deea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162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c4d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93D4B-E23E-4EF5-A350-83EB733A1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9deea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495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c4da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94080" y="1600200"/>
            <a:ext cx="3495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c4d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7EC24-7B3C-4F2E-8A79-6FE8CB368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9de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DA8E9-2B44-4D71-9780-DD2BCCA3B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523520" y="274320"/>
            <a:ext cx="716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c4d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B6368-96C5-4C79-8851-414D212CD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9deea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495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c4da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94080" y="1600200"/>
            <a:ext cx="3495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c4da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523520" y="3964320"/>
            <a:ext cx="3495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c4d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CE092-8244-4A63-A08C-FFB2D3F9C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9deea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600200"/>
            <a:ext cx="7162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c4d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8711-8DD1-4BA1-BA92-0D4E8F4D0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9deea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495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c4da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94080" y="1600200"/>
            <a:ext cx="3495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c4da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94080" y="3964320"/>
            <a:ext cx="3495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c4d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B8663-1EE0-438D-B3B3-AA8EC66E0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9deea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495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c4da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94080" y="1600200"/>
            <a:ext cx="3495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c4da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520" y="3964320"/>
            <a:ext cx="7162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c4d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42B85-B398-4C15-BB79-31445E5AE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9deea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162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c4da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523520" y="3964320"/>
            <a:ext cx="7162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c4d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1617F-9C65-47FD-A1AC-FCAD55FC8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9deea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495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c4da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94080" y="1600200"/>
            <a:ext cx="3495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c4da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23520" y="3964320"/>
            <a:ext cx="3495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c4da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94080" y="3964320"/>
            <a:ext cx="3495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c4d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9AFD7-AB25-40BB-8F30-4E28C2263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9deea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230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c4da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45240" y="1600200"/>
            <a:ext cx="230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c4da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67320" y="1600200"/>
            <a:ext cx="230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c4da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523520" y="3964320"/>
            <a:ext cx="230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c4da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45240" y="3964320"/>
            <a:ext cx="230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c4da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67320" y="3964320"/>
            <a:ext cx="230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c4d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50F9F-0BA8-4DF0-BCF2-244F9CBDF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9deea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162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c4d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E5DD-E271-4AA8-AF03-02CF40195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9deea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495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c4da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94080" y="1600200"/>
            <a:ext cx="3495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c4d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52C5-27A2-4FA4-8054-5A04188C5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9de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F61A-9926-49E2-8222-E4A39A399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3520" y="274320"/>
            <a:ext cx="716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c4d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090A-D4E6-4551-B338-81A325923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9deea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495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c4da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4080" y="1600200"/>
            <a:ext cx="3495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c4da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3964320"/>
            <a:ext cx="3495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c4d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90B8-D9E5-46A5-ADCE-A289CE669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9deea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495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c4da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94080" y="1600200"/>
            <a:ext cx="3495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c4da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94080" y="3964320"/>
            <a:ext cx="3495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c4d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5C59-AF6D-4430-87FE-7B6648324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9deea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495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c4da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94080" y="1600200"/>
            <a:ext cx="3495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c4da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3964320"/>
            <a:ext cx="7162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c4d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D97B-A124-40B3-A541-37BE0557D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9deea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e9deea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520" y="1600200"/>
            <a:ext cx="7162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c4d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c4da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d8c4da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d8c4d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c4da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d8c4da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d8c4d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c4da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d8c4da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d8c4d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c4da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d8c4da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d8c4d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c4da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d8c4da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c4da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d8c4da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c4da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d8c4da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523880" y="6356520"/>
            <a:ext cx="1981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5724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2480" y="6356520"/>
            <a:ext cx="1984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99013-9BC9-4A91-9A12-677B9198685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9deea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e9deea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523520" y="1600200"/>
            <a:ext cx="7162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c4d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c4da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d8c4da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d8c4d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c4da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d8c4da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d8c4d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c4da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d8c4da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d8c4d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c4da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d8c4da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d8c4d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c4da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d8c4da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c4da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d8c4da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c4da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d8c4da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1523880" y="6356520"/>
            <a:ext cx="1981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65724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02480" y="6356520"/>
            <a:ext cx="1984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9A909-2236-401A-8EAE-1D92EC24D58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4076640"/>
            <a:ext cx="8076960" cy="178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9deea"/>
                </a:solidFill>
                <a:latin typeface="Arial"/>
              </a:rPr>
              <a:t>ВОСПИТАНИЕ ГРАЖДАНСКО-ПАТРИОТИЧЕСКИХ КАЧЕСТВ ОБУЧАЮЩИХСЯ ПУТЕМ ИНТЕГРАЦИИ ИССЛЕДОВАТЕЛЬСКОЙ ДЕЯТЕЛЬНОСТИ И ИЗУЧЕНИЯ ИСТОРИИ</a:t>
            </a:r>
            <a:br>
              <a:rPr sz="2400"/>
            </a:br>
            <a:r>
              <a:rPr b="1" lang="ru-RU" sz="1800" spc="-1" strike="noStrike">
                <a:solidFill>
                  <a:srgbClr val="e9deea"/>
                </a:solidFill>
                <a:latin typeface="Arial"/>
              </a:rPr>
              <a:t>Бушова С.А., учитель истории ГБОУ СОШ с.Красный Яр</a:t>
            </a:r>
            <a:endParaRPr b="1" lang="en-US" sz="1800" spc="-1" strike="noStrike">
              <a:solidFill>
                <a:srgbClr val="e9deea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28760" y="-571680"/>
            <a:ext cx="821520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d8c4da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9deea"/>
                </a:solidFill>
                <a:latin typeface="Arial"/>
              </a:rPr>
              <a:t>«Учителями славится Россия, ученики приносят славу ей»</a:t>
            </a:r>
            <a:endParaRPr b="1" lang="en-US" sz="2400" spc="-1" strike="noStrike">
              <a:solidFill>
                <a:srgbClr val="e9deea"/>
              </a:solidFill>
              <a:latin typeface="Arial"/>
            </a:endParaRPr>
          </a:p>
        </p:txBody>
      </p:sp>
      <p:pic>
        <p:nvPicPr>
          <p:cNvPr id="118" name="Содержимое 3" descr="41.jpg"/>
          <p:cNvPicPr/>
          <p:nvPr/>
        </p:nvPicPr>
        <p:blipFill>
          <a:blip r:embed="rId1"/>
          <a:stretch/>
        </p:blipFill>
        <p:spPr>
          <a:xfrm>
            <a:off x="1428840" y="1428840"/>
            <a:ext cx="750096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71760" y="285840"/>
            <a:ext cx="716256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9deea"/>
                </a:solidFill>
                <a:latin typeface="Arial"/>
              </a:rPr>
              <a:t>«Церковь Михаила Архангела в с.Красный Яр»</a:t>
            </a:r>
            <a:endParaRPr b="1" lang="en-US" sz="3200" spc="-1" strike="noStrike">
              <a:solidFill>
                <a:srgbClr val="e9deea"/>
              </a:solidFill>
              <a:latin typeface="Arial"/>
            </a:endParaRPr>
          </a:p>
        </p:txBody>
      </p:sp>
      <p:pic>
        <p:nvPicPr>
          <p:cNvPr id="120" name="Picture 3" descr="C:\Documents and Settings\Бушова\Мои документы\научное общество учащихся\конф.Быкова\фото Кр.Яр\264_0134863b.jpg"/>
          <p:cNvPicPr/>
          <p:nvPr/>
        </p:nvPicPr>
        <p:blipFill>
          <a:blip r:embed="rId1"/>
          <a:stretch/>
        </p:blipFill>
        <p:spPr>
          <a:xfrm>
            <a:off x="2071800" y="1857240"/>
            <a:ext cx="614340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86920" y="549360"/>
            <a:ext cx="7705800" cy="76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9deea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e9deea"/>
                </a:solidFill>
                <a:latin typeface="Arial"/>
              </a:rPr>
              <a:t>Ресурсы:</a:t>
            </a:r>
            <a:br>
              <a:rPr sz="4400"/>
            </a:br>
            <a:r>
              <a:rPr b="1" lang="ru-RU" sz="4400" spc="-1" strike="noStrike" u="sng">
                <a:solidFill>
                  <a:srgbClr val="0000ff"/>
                </a:solidFill>
                <a:uFillTx/>
                <a:latin typeface="Arial"/>
              </a:rPr>
              <a:t>https://самарскийкрай.рф</a:t>
            </a:r>
            <a:endParaRPr b="1" lang="en-US" sz="4400" spc="-1" strike="noStrike">
              <a:solidFill>
                <a:srgbClr val="e9deea"/>
              </a:solidFill>
              <a:latin typeface="Arial"/>
            </a:endParaRPr>
          </a:p>
        </p:txBody>
      </p:sp>
      <p:pic>
        <p:nvPicPr>
          <p:cNvPr id="122" name="Рисунок 4" descr=""/>
          <p:cNvPicPr/>
          <p:nvPr/>
        </p:nvPicPr>
        <p:blipFill>
          <a:blip r:embed="rId1"/>
          <a:stretch/>
        </p:blipFill>
        <p:spPr>
          <a:xfrm>
            <a:off x="1908000" y="1916280"/>
            <a:ext cx="5951880" cy="47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394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9deea"/>
                </a:solidFill>
                <a:latin typeface="Arial"/>
              </a:rPr>
              <a:t>Гражданско-патриотическое  воспитание должно ориентироваться не только на любви к Родине, но и веры в себя, в собственные силы, в великие свершения наших отцов и дедов.</a:t>
            </a:r>
            <a:endParaRPr b="1" lang="en-US" sz="3200" spc="-1" strike="noStrike">
              <a:solidFill>
                <a:srgbClr val="e9de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999880" y="-785880"/>
            <a:ext cx="554364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9deea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142640" y="0"/>
            <a:ext cx="800100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d8c4da"/>
                </a:solidFill>
                <a:latin typeface="Calibri"/>
              </a:rPr>
              <a:t>                           </a:t>
            </a:r>
            <a:r>
              <a:rPr b="0" i="1" lang="ru-RU" sz="3200" spc="-1" strike="noStrike">
                <a:solidFill>
                  <a:srgbClr val="d8c4da"/>
                </a:solidFill>
                <a:latin typeface="Calibri"/>
              </a:rPr>
              <a:t>Историческое значение каждого русского человека </a:t>
            </a:r>
            <a:endParaRPr b="0" lang="en-US" sz="3200" spc="-1" strike="noStrike">
              <a:solidFill>
                <a:srgbClr val="d8c4da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d8c4da"/>
                </a:solidFill>
                <a:latin typeface="Calibri"/>
              </a:rPr>
              <a:t>                                       </a:t>
            </a:r>
            <a:r>
              <a:rPr b="0" i="1" lang="ru-RU" sz="3200" spc="-1" strike="noStrike">
                <a:solidFill>
                  <a:srgbClr val="d8c4da"/>
                </a:solidFill>
                <a:latin typeface="Calibri"/>
              </a:rPr>
              <a:t>измеряется его заслугами Родине, его человеческое </a:t>
            </a:r>
            <a:endParaRPr b="0" lang="en-US" sz="3200" spc="-1" strike="noStrike">
              <a:solidFill>
                <a:srgbClr val="d8c4da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d8c4da"/>
                </a:solidFill>
                <a:latin typeface="Calibri"/>
              </a:rPr>
              <a:t>                                      </a:t>
            </a:r>
            <a:r>
              <a:rPr b="0" i="1" lang="ru-RU" sz="3200" spc="-1" strike="noStrike">
                <a:solidFill>
                  <a:srgbClr val="d8c4da"/>
                </a:solidFill>
                <a:latin typeface="Calibri"/>
              </a:rPr>
              <a:t>достоинство – силой его патриотизма.</a:t>
            </a:r>
            <a:endParaRPr b="0" lang="en-US" sz="3200" spc="-1" strike="noStrike">
              <a:solidFill>
                <a:srgbClr val="d8c4da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d8c4da"/>
                </a:solidFill>
                <a:latin typeface="Calibri"/>
              </a:rPr>
              <a:t>                                                                                       </a:t>
            </a:r>
            <a:r>
              <a:rPr b="0" i="1" lang="en-US" sz="3200" spc="-1" strike="noStrike">
                <a:solidFill>
                  <a:srgbClr val="d8c4da"/>
                </a:solidFill>
                <a:latin typeface="Calibri"/>
              </a:rPr>
              <a:t>           </a:t>
            </a:r>
            <a:r>
              <a:rPr b="0" i="1" lang="ru-RU" sz="3200" spc="-1" strike="noStrike">
                <a:solidFill>
                  <a:srgbClr val="d8c4da"/>
                </a:solidFill>
                <a:latin typeface="Calibri"/>
              </a:rPr>
              <a:t>Н.Г.Чернышевский</a:t>
            </a:r>
            <a:endParaRPr b="0" lang="en-US" sz="3200" spc="-1" strike="noStrike">
              <a:solidFill>
                <a:srgbClr val="d8c4da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c4da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9deea"/>
                </a:solidFill>
                <a:latin typeface="Arial"/>
              </a:rPr>
              <a:t>Формы краеведческой работы</a:t>
            </a:r>
            <a:endParaRPr b="1" lang="en-US" sz="4000" spc="-1" strike="noStrike">
              <a:solidFill>
                <a:srgbClr val="e9deea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76000" y="1484280"/>
            <a:ext cx="3505320" cy="1751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8c4da"/>
                </a:solidFill>
                <a:latin typeface="Calibri"/>
              </a:rPr>
              <a:t>урочная </a:t>
            </a:r>
            <a:endParaRPr b="0" lang="en-US" sz="3200" spc="-1" strike="noStrike">
              <a:solidFill>
                <a:srgbClr val="d8c4da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8c4da"/>
                </a:solidFill>
                <a:latin typeface="Calibri"/>
              </a:rPr>
              <a:t>Учебный предмет «История» </a:t>
            </a:r>
            <a:endParaRPr b="0" lang="en-US" sz="3200" spc="-1" strike="noStrike">
              <a:solidFill>
                <a:srgbClr val="d8c4da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181120" y="1534680"/>
            <a:ext cx="35053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8c4da"/>
                </a:solidFill>
                <a:latin typeface="Calibri"/>
              </a:rPr>
              <a:t>внеурочная</a:t>
            </a:r>
            <a:endParaRPr b="0" lang="en-US" sz="3200" spc="-1" strike="noStrike">
              <a:solidFill>
                <a:srgbClr val="d8c4da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5181120" y="2174760"/>
            <a:ext cx="35053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8c4d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8c4da"/>
                </a:solidFill>
                <a:latin typeface="Calibri"/>
              </a:rPr>
              <a:t>Поисковые экспедиции</a:t>
            </a:r>
            <a:endParaRPr b="0" lang="en-US" sz="2400" spc="-1" strike="noStrike">
              <a:solidFill>
                <a:srgbClr val="d8c4da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d8c4d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8c4da"/>
                </a:solidFill>
                <a:latin typeface="Calibri"/>
              </a:rPr>
              <a:t>Туризм</a:t>
            </a:r>
            <a:endParaRPr b="0" lang="en-US" sz="2400" spc="-1" strike="noStrike">
              <a:solidFill>
                <a:srgbClr val="d8c4da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d8c4d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8c4da"/>
                </a:solidFill>
                <a:latin typeface="Calibri"/>
              </a:rPr>
              <a:t>Краеведческие кружки</a:t>
            </a:r>
            <a:endParaRPr b="0" lang="en-US" sz="2400" spc="-1" strike="noStrike">
              <a:solidFill>
                <a:srgbClr val="d8c4da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d8c4d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8c4da"/>
                </a:solidFill>
                <a:latin typeface="Calibri"/>
              </a:rPr>
              <a:t>Декады истории</a:t>
            </a:r>
            <a:endParaRPr b="0" lang="en-US" sz="2400" spc="-1" strike="noStrike">
              <a:solidFill>
                <a:srgbClr val="d8c4da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d8c4d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8c4da"/>
                </a:solidFill>
                <a:latin typeface="Calibri"/>
              </a:rPr>
              <a:t>Конкурсы</a:t>
            </a:r>
            <a:endParaRPr b="0" lang="en-US" sz="2400" spc="-1" strike="noStrike">
              <a:solidFill>
                <a:srgbClr val="d8c4da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d8c4d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8c4da"/>
                </a:solidFill>
                <a:latin typeface="Calibri"/>
              </a:rPr>
              <a:t>Олимпиады</a:t>
            </a:r>
            <a:endParaRPr b="0" lang="en-US" sz="2400" spc="-1" strike="noStrike">
              <a:solidFill>
                <a:srgbClr val="d8c4da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d8c4d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8c4da"/>
                </a:solidFill>
                <a:latin typeface="Calibri"/>
              </a:rPr>
              <a:t>Школьный музей</a:t>
            </a:r>
            <a:endParaRPr b="0" lang="en-US" sz="2400" spc="-1" strike="noStrike">
              <a:solidFill>
                <a:srgbClr val="d8c4da"/>
              </a:solidFill>
              <a:latin typeface="Calibri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1979640" y="3429000"/>
            <a:ext cx="2581200" cy="27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9deea"/>
                </a:solidFill>
                <a:latin typeface="Arial"/>
              </a:rPr>
              <a:t>ФЕДЕРАЛЬНАЯ РАБОЧАЯ ПРОГРАММА ОСНОВНОГО ОБЩЕГО ОБРАЗОВАНИЯ</a:t>
            </a:r>
            <a:br>
              <a:rPr sz="1600"/>
            </a:br>
            <a:r>
              <a:rPr b="1" lang="ru-RU" sz="1600" spc="-1" strike="noStrike">
                <a:solidFill>
                  <a:srgbClr val="e9deea"/>
                </a:solidFill>
                <a:latin typeface="Arial"/>
              </a:rPr>
              <a:t> </a:t>
            </a:r>
            <a:br>
              <a:rPr sz="1600"/>
            </a:br>
            <a:r>
              <a:rPr b="1" lang="ru-RU" sz="1600" spc="-1" strike="noStrike">
                <a:solidFill>
                  <a:srgbClr val="e9deea"/>
                </a:solidFill>
                <a:latin typeface="Arial"/>
              </a:rPr>
              <a:t>ИСТОРИЯ</a:t>
            </a:r>
            <a:br>
              <a:rPr sz="1600"/>
            </a:br>
            <a:endParaRPr b="1" lang="en-US" sz="1600" spc="-1" strike="noStrike">
              <a:solidFill>
                <a:srgbClr val="e9deea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23520" y="1534680"/>
            <a:ext cx="3505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d8c4da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23520" y="2174760"/>
            <a:ext cx="35053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8c4d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c4da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181120" y="1534680"/>
            <a:ext cx="3505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d8c4da"/>
              </a:solidFill>
              <a:latin typeface="Calibri"/>
            </a:endParaRPr>
          </a:p>
        </p:txBody>
      </p:sp>
      <p:pic>
        <p:nvPicPr>
          <p:cNvPr id="102" name="Объект 10" descr=""/>
          <p:cNvPicPr/>
          <p:nvPr/>
        </p:nvPicPr>
        <p:blipFill>
          <a:blip r:embed="rId1"/>
          <a:stretch/>
        </p:blipFill>
        <p:spPr>
          <a:xfrm>
            <a:off x="5029200" y="1535040"/>
            <a:ext cx="3935520" cy="459108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8" descr=""/>
          <p:cNvPicPr/>
          <p:nvPr/>
        </p:nvPicPr>
        <p:blipFill>
          <a:blip r:embed="rId2"/>
          <a:stretch/>
        </p:blipFill>
        <p:spPr>
          <a:xfrm>
            <a:off x="1397160" y="1535040"/>
            <a:ext cx="3504960" cy="43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9deea"/>
                </a:solidFill>
                <a:latin typeface="Arial"/>
              </a:rPr>
              <a:t>Исследовательская деятельность по вопросам краеведения - важное средство воспитания гражданственности и патриотизма</a:t>
            </a:r>
            <a:endParaRPr b="1" lang="en-US" sz="2400" spc="-1" strike="noStrike">
              <a:solidFill>
                <a:srgbClr val="e9deea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23520" y="1535040"/>
            <a:ext cx="3505320" cy="2108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8c4da"/>
                </a:solidFill>
                <a:latin typeface="Calibri"/>
              </a:rPr>
              <a:t>активная</a:t>
            </a:r>
            <a:endParaRPr b="0" lang="en-US" sz="3200" spc="-1" strike="noStrike">
              <a:solidFill>
                <a:srgbClr val="d8c4da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d8c4d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8c4da"/>
                </a:solidFill>
                <a:latin typeface="Calibri"/>
              </a:rPr>
              <a:t>Поиск</a:t>
            </a:r>
            <a:endParaRPr b="0" lang="en-US" sz="2000" spc="-1" strike="noStrike">
              <a:solidFill>
                <a:srgbClr val="d8c4da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d8c4d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8c4da"/>
                </a:solidFill>
                <a:latin typeface="Calibri"/>
              </a:rPr>
              <a:t>Туризм</a:t>
            </a:r>
            <a:endParaRPr b="0" lang="en-US" sz="2000" spc="-1" strike="noStrike">
              <a:solidFill>
                <a:srgbClr val="d8c4da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d8c4d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8c4da"/>
                </a:solidFill>
                <a:latin typeface="Calibri"/>
              </a:rPr>
              <a:t>Краеведческая деятельность</a:t>
            </a:r>
            <a:endParaRPr b="0" lang="en-US" sz="2000" spc="-1" strike="noStrike">
              <a:solidFill>
                <a:srgbClr val="d8c4da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8c4da"/>
                </a:solidFill>
                <a:latin typeface="Calibri"/>
              </a:rPr>
              <a:t>             </a:t>
            </a:r>
            <a:endParaRPr b="0" lang="en-US" sz="3200" spc="-1" strike="noStrike">
              <a:solidFill>
                <a:srgbClr val="d8c4da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81120" y="1534680"/>
            <a:ext cx="35053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8c4da"/>
                </a:solidFill>
                <a:latin typeface="Calibri"/>
              </a:rPr>
              <a:t>пассивная</a:t>
            </a:r>
            <a:endParaRPr b="0" lang="en-US" sz="3200" spc="-1" strike="noStrike">
              <a:solidFill>
                <a:srgbClr val="d8c4da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181120" y="2174400"/>
            <a:ext cx="3505320" cy="16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8c4d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8c4da"/>
                </a:solidFill>
                <a:latin typeface="Calibri"/>
              </a:rPr>
              <a:t>Работа с документами</a:t>
            </a:r>
            <a:endParaRPr b="0" lang="en-US" sz="2400" spc="-1" strike="noStrike">
              <a:solidFill>
                <a:srgbClr val="d8c4da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d8c4d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8c4da"/>
                </a:solidFill>
                <a:latin typeface="Calibri"/>
              </a:rPr>
              <a:t>Проведение экскурсий в школьном музее</a:t>
            </a:r>
            <a:endParaRPr b="0" lang="en-US" sz="2400" spc="-1" strike="noStrike">
              <a:solidFill>
                <a:srgbClr val="d8c4da"/>
              </a:solidFill>
              <a:latin typeface="Calibri"/>
            </a:endParaRPr>
          </a:p>
        </p:txBody>
      </p:sp>
      <p:pic>
        <p:nvPicPr>
          <p:cNvPr id="108" name="Picture 7" descr="C:\Documents and Settings\Бушова\Мои документы\Год охраны окруж.среды-2013\прошкина\фото\DSC_1725.jpg"/>
          <p:cNvPicPr/>
          <p:nvPr/>
        </p:nvPicPr>
        <p:blipFill>
          <a:blip r:embed="rId1"/>
          <a:stretch/>
        </p:blipFill>
        <p:spPr>
          <a:xfrm>
            <a:off x="1071720" y="3776760"/>
            <a:ext cx="6572160" cy="33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3520" y="499680"/>
            <a:ext cx="7162920" cy="91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9deea"/>
                </a:solidFill>
                <a:latin typeface="Arial"/>
              </a:rPr>
              <a:t>«Очерк истории Красного Яра»</a:t>
            </a:r>
            <a:endParaRPr b="1" lang="en-US" sz="4000" spc="-1" strike="noStrike">
              <a:solidFill>
                <a:srgbClr val="e9deea"/>
              </a:solidFill>
              <a:latin typeface="Arial"/>
            </a:endParaRPr>
          </a:p>
        </p:txBody>
      </p:sp>
      <p:pic>
        <p:nvPicPr>
          <p:cNvPr id="110" name="Picture 4" descr="C:\Documents and Settings\Бушова\Мои документы\научное общество учащихся\конф.Быкова\фото Кр.Яр\domkorobova.jpg"/>
          <p:cNvPicPr/>
          <p:nvPr/>
        </p:nvPicPr>
        <p:blipFill>
          <a:blip r:embed="rId1"/>
          <a:stretch/>
        </p:blipFill>
        <p:spPr>
          <a:xfrm>
            <a:off x="1886040" y="2071800"/>
            <a:ext cx="6438960" cy="40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71760" y="28548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9deea"/>
                </a:solidFill>
                <a:latin typeface="Arial"/>
              </a:rPr>
              <a:t>«Женщины в годы войны»</a:t>
            </a:r>
            <a:endParaRPr b="1" lang="en-US" sz="4400" spc="-1" strike="noStrike">
              <a:solidFill>
                <a:srgbClr val="e9deea"/>
              </a:solidFill>
              <a:latin typeface="Arial"/>
            </a:endParaRPr>
          </a:p>
        </p:txBody>
      </p:sp>
      <p:pic>
        <p:nvPicPr>
          <p:cNvPr id="112" name="Picture 4" descr="C:\Documents and Settings\Бушова\Мои документы\Документы сканера\Жещины в годы войны.jpg"/>
          <p:cNvPicPr/>
          <p:nvPr/>
        </p:nvPicPr>
        <p:blipFill>
          <a:blip r:embed="rId1"/>
          <a:stretch/>
        </p:blipFill>
        <p:spPr>
          <a:xfrm>
            <a:off x="2643120" y="1571760"/>
            <a:ext cx="442908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71760" y="285480"/>
            <a:ext cx="757224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9deea"/>
                </a:solidFill>
                <a:latin typeface="Arial"/>
              </a:rPr>
              <a:t>«Архитектурная застройка Красного Яра в </a:t>
            </a:r>
            <a:r>
              <a:rPr b="1" lang="en-US" sz="4000" spc="-1" strike="noStrike">
                <a:solidFill>
                  <a:srgbClr val="e9deea"/>
                </a:solidFill>
                <a:latin typeface="Arial"/>
              </a:rPr>
              <a:t>XIX </a:t>
            </a:r>
            <a:r>
              <a:rPr b="1" lang="ru-RU" sz="4000" spc="-1" strike="noStrike">
                <a:solidFill>
                  <a:srgbClr val="e9deea"/>
                </a:solidFill>
                <a:latin typeface="Arial"/>
              </a:rPr>
              <a:t>в.»</a:t>
            </a:r>
            <a:endParaRPr b="1" lang="en-US" sz="4000" spc="-1" strike="noStrike">
              <a:solidFill>
                <a:srgbClr val="e9deea"/>
              </a:solidFill>
              <a:latin typeface="Arial"/>
            </a:endParaRPr>
          </a:p>
        </p:txBody>
      </p:sp>
      <p:pic>
        <p:nvPicPr>
          <p:cNvPr id="114" name="Picture 4" descr="C:\Documents and Settings\Бушова\Мои документы\научное общество учащихся\конф.Быкова\фото Кр.Яр\лавка захарова.jpg"/>
          <p:cNvPicPr/>
          <p:nvPr/>
        </p:nvPicPr>
        <p:blipFill>
          <a:blip r:embed="rId1"/>
          <a:stretch/>
        </p:blipFill>
        <p:spPr>
          <a:xfrm>
            <a:off x="1712880" y="1600200"/>
            <a:ext cx="67849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9deea"/>
                </a:solidFill>
                <a:latin typeface="Arial"/>
              </a:rPr>
              <a:t>«Красноярские учителя-герои фронта»</a:t>
            </a:r>
            <a:endParaRPr b="1" lang="en-US" sz="4400" spc="-1" strike="noStrike">
              <a:solidFill>
                <a:srgbClr val="e9deea"/>
              </a:solidFill>
              <a:latin typeface="Arial"/>
            </a:endParaRPr>
          </a:p>
        </p:txBody>
      </p:sp>
      <p:pic>
        <p:nvPicPr>
          <p:cNvPr id="116" name="Picture 4" descr="C:\Documents and Settings\Бушова\Мои документы\Документы сканера\Батюшков.jpg"/>
          <p:cNvPicPr/>
          <p:nvPr/>
        </p:nvPicPr>
        <p:blipFill>
          <a:blip r:embed="rId1"/>
          <a:stretch/>
        </p:blipFill>
        <p:spPr>
          <a:xfrm>
            <a:off x="3071880" y="1500120"/>
            <a:ext cx="421488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3T14:21:28Z</dcterms:created>
  <dc:creator/>
  <dc:description/>
  <dc:language>en-US</dc:language>
  <cp:lastModifiedBy>Бушова</cp:lastModifiedBy>
  <dcterms:modified xsi:type="dcterms:W3CDTF">2025-10-29T07:10:42Z</dcterms:modified>
  <cp:revision>5</cp:revision>
  <dc:subject/>
  <dc:title>ВОСПИТАНИЕ ГРАЖДАНСКО-ПАТРИОТИЧЕСКИХ КАЧЕСТВ ОБУЧАЮЩИХСЯ ПУТЕМ ИНТЕГРАЦИИ ИССЛЕДОВАТЕЛЬСКОЙ ДЕЯТЕЛЬНОСТИ И ИЗУЧЕНИЯ ИСТОРИ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300052781049</vt:lpwstr>
  </property>
</Properties>
</file>